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erlin Sans FB Demi"/>
              </a:rPr>
              <a:t>Click to move the slide</a:t>
            </a:r>
            <a:endParaRPr b="0" lang="en-US" sz="60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2B56E-1DC6-49BD-8CB7-B93C719F33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3490B-BBC3-49B8-A639-F5911BAA90C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DAFC-891A-4BCA-892B-A3CB92265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265D-8AE9-48E6-A53B-B1335808E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ADBC-A452-4281-9E6D-497788F52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062F-255A-48F3-9CE1-6B9C12520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FA00-0618-41D0-989B-18064374F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0FFE-451D-4384-AF4C-2DDFE5D15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7C49-1DD6-4CA0-879E-C112576C5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4231-A963-4296-BA64-315B6326B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5B31-BC3E-4A5D-8A54-E82663F98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2767-4E35-4489-9A1E-0F6C7B77B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E94E-5585-4B68-8A57-BEC1FDE5D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B74B-60CE-4FE4-8FF5-3081091F0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erlin Sans FB Demi"/>
              </a:rPr>
              <a:t>Click to edit the title text format</a:t>
            </a:r>
            <a:endParaRPr b="0" lang="en-US" sz="60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erlin Sans FB Demi"/>
              </a:rPr>
              <a:t>Click to edit the outline text format</a:t>
            </a:r>
            <a:endParaRPr b="0" lang="en-US" sz="5400" spc="-1" strike="noStrike">
              <a:solidFill>
                <a:srgbClr val="ffffff"/>
              </a:solidFill>
              <a:latin typeface="Berlin Sans FB Demi"/>
            </a:endParaRPr>
          </a:p>
          <a:p>
            <a:pPr lvl="1" marL="482760" indent="-185760">
              <a:spcBef>
                <a:spcPts val="1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erlin Sans FB Demi"/>
              </a:rPr>
              <a:t>Second Outline Level</a:t>
            </a:r>
            <a:endParaRPr b="0" lang="en-US" sz="5400" spc="-1" strike="noStrike">
              <a:solidFill>
                <a:srgbClr val="ffffff"/>
              </a:solidFill>
              <a:latin typeface="Berlin Sans FB Demi"/>
            </a:endParaRPr>
          </a:p>
          <a:p>
            <a:pPr lvl="2" marL="742680" indent="-148320"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erlin Sans FB Demi"/>
              </a:rPr>
              <a:t>Third Outline Level</a:t>
            </a:r>
            <a:endParaRPr b="0" lang="en-US" sz="5400" spc="-1" strike="noStrike">
              <a:solidFill>
                <a:srgbClr val="ffffff"/>
              </a:solidFill>
              <a:latin typeface="Berlin Sans FB Demi"/>
            </a:endParaRPr>
          </a:p>
          <a:p>
            <a:pPr lvl="3" marL="1040040" indent="-148320">
              <a:spcBef>
                <a:spcPts val="1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erlin Sans FB Demi"/>
              </a:rPr>
              <a:t>Fourth Outline Level</a:t>
            </a:r>
            <a:endParaRPr b="0" lang="en-US" sz="5400" spc="-1" strike="noStrike">
              <a:solidFill>
                <a:srgbClr val="ffffff"/>
              </a:solidFill>
              <a:latin typeface="Berlin Sans FB Demi"/>
            </a:endParaRPr>
          </a:p>
          <a:p>
            <a:pPr lvl="4" marL="1337040" indent="-148320">
              <a:spcBef>
                <a:spcPts val="134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erlin Sans FB Demi"/>
              </a:rPr>
              <a:t>Fifth Outline Level</a:t>
            </a:r>
            <a:endParaRPr b="0" lang="en-US" sz="5400" spc="-1" strike="noStrike">
              <a:solidFill>
                <a:srgbClr val="ffffff"/>
              </a:solidFill>
              <a:latin typeface="Berlin Sans FB Demi"/>
            </a:endParaRPr>
          </a:p>
          <a:p>
            <a:pPr lvl="5" marL="1337040" indent="-148320">
              <a:spcBef>
                <a:spcPts val="134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erlin Sans FB Demi"/>
              </a:rPr>
              <a:t>Sixth Outline Level</a:t>
            </a:r>
            <a:endParaRPr b="0" lang="en-US" sz="5400" spc="-1" strike="noStrike">
              <a:solidFill>
                <a:srgbClr val="ffffff"/>
              </a:solidFill>
              <a:latin typeface="Berlin Sans FB Demi"/>
            </a:endParaRPr>
          </a:p>
          <a:p>
            <a:pPr lvl="6" marL="1337040" indent="-148320">
              <a:spcBef>
                <a:spcPts val="134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erlin Sans FB Demi"/>
              </a:rPr>
              <a:t>Seventh Outline Level</a:t>
            </a:r>
            <a:endParaRPr b="0" lang="en-US" sz="54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CDE2E-F733-4896-BD00-D56C82AC250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Berlin Sans FB Demi"/>
              </a:rPr>
              <a:t>Las banderas del mundo</a:t>
            </a:r>
            <a:br>
              <a:rPr sz="8800"/>
            </a:br>
            <a:r>
              <a:rPr b="0" lang="en-US" sz="8800" spc="-1" strike="noStrike">
                <a:solidFill>
                  <a:srgbClr val="ffffff"/>
                </a:solidFill>
                <a:latin typeface="Berlin Sans FB Demi"/>
              </a:rPr>
              <a:t>hispano</a:t>
            </a:r>
            <a:endParaRPr b="0" lang="en-US" sz="8800" spc="-1" strike="noStrike">
              <a:solidFill>
                <a:srgbClr val="ffffff"/>
              </a:solidFill>
              <a:latin typeface="Berlin Sans FB Dem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44197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600" spc="-1" strike="noStrike">
                <a:solidFill>
                  <a:srgbClr val="8064a2"/>
                </a:solidFill>
                <a:latin typeface="Berlin Sans FB Demi"/>
              </a:rPr>
              <a:t>¿</a:t>
            </a:r>
            <a:r>
              <a:rPr b="0" lang="es-ES" sz="6600" spc="-1" strike="noStrike">
                <a:solidFill>
                  <a:srgbClr val="ff0000"/>
                </a:solidFill>
                <a:latin typeface="Berlin Sans FB Demi"/>
              </a:rPr>
              <a:t>De</a:t>
            </a:r>
            <a:r>
              <a:rPr b="0" lang="es-ES" sz="6600" spc="-1" strike="noStrike">
                <a:solidFill>
                  <a:srgbClr val="ffffff"/>
                </a:solidFill>
                <a:latin typeface="Berlin Sans FB Demi"/>
              </a:rPr>
              <a:t> </a:t>
            </a:r>
            <a:r>
              <a:rPr b="0" lang="es-ES" sz="6600" spc="-1" strike="noStrike">
                <a:solidFill>
                  <a:srgbClr val="00b050"/>
                </a:solidFill>
                <a:latin typeface="Berlin Sans FB Demi"/>
              </a:rPr>
              <a:t>qué</a:t>
            </a:r>
            <a:r>
              <a:rPr b="0" lang="es-ES" sz="6600" spc="-1" strike="noStrike">
                <a:solidFill>
                  <a:srgbClr val="00b0f0"/>
                </a:solidFill>
                <a:latin typeface="Berlin Sans FB Demi"/>
              </a:rPr>
              <a:t> colores </a:t>
            </a:r>
            <a:r>
              <a:rPr b="0" lang="es-ES" sz="6600" spc="-1" strike="noStrike">
                <a:solidFill>
                  <a:srgbClr val="f79646"/>
                </a:solidFill>
                <a:latin typeface="Berlin Sans FB Demi"/>
              </a:rPr>
              <a:t>son</a:t>
            </a:r>
            <a:r>
              <a:rPr b="0" lang="es-ES" sz="6600" spc="-1" strike="noStrike">
                <a:solidFill>
                  <a:srgbClr val="ffff00"/>
                </a:solidFill>
                <a:latin typeface="Berlin Sans FB Demi"/>
              </a:rPr>
              <a:t>?</a:t>
            </a:r>
            <a:endParaRPr b="0" lang="en-US" sz="6600" spc="-1" strike="noStrike">
              <a:solidFill>
                <a:srgbClr val="ffffff"/>
              </a:solidFill>
              <a:latin typeface="Berlin Sans FB D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Berlin Sans FB Demi"/>
              </a:rPr>
              <a:t>¿De qué colores son…</a:t>
            </a:r>
            <a:br>
              <a:rPr sz="4000"/>
            </a:br>
            <a:r>
              <a:rPr b="0" lang="es-ES" sz="4000" spc="-1" strike="noStrike">
                <a:solidFill>
                  <a:srgbClr val="ffffff"/>
                </a:solidFill>
                <a:latin typeface="Berlin Sans FB Demi"/>
              </a:rPr>
              <a:t>la bandera de los Estados Unidos?</a:t>
            </a:r>
            <a:endParaRPr b="0" lang="en-US" sz="4000" spc="-1" strike="noStrike">
              <a:solidFill>
                <a:srgbClr val="ffffff"/>
              </a:solidFill>
              <a:latin typeface="Berlin Sans FB Demi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65041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es-ES" sz="6000" spc="-1" strike="noStrike">
                <a:solidFill>
                  <a:srgbClr val="ffffff"/>
                </a:solidFill>
                <a:latin typeface="Berlin Sans FB Demi"/>
              </a:rPr>
              <a:t>¿De qué colores son… </a:t>
            </a:r>
            <a:br>
              <a:rPr sz="6000"/>
            </a:br>
            <a:r>
              <a:rPr b="0" lang="es-ES" sz="6000" spc="-1" strike="noStrike">
                <a:solidFill>
                  <a:srgbClr val="ffffff"/>
                </a:solidFill>
                <a:latin typeface="Berlin Sans FB Demi"/>
              </a:rPr>
              <a:t>la bandera de Venezuela?</a:t>
            </a:r>
            <a:endParaRPr b="0" lang="en-US" sz="6000" spc="-1" strike="noStrike">
              <a:solidFill>
                <a:srgbClr val="ffffff"/>
              </a:solidFill>
              <a:latin typeface="Berlin Sans FB Dem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600200" y="2666880"/>
            <a:ext cx="563868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32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ff"/>
                </a:solidFill>
                <a:latin typeface="Berlin Sans FB Demi"/>
              </a:rPr>
              <a:t>¿De qué colores son…</a:t>
            </a:r>
            <a:br>
              <a:rPr sz="5400"/>
            </a:br>
            <a:r>
              <a:rPr b="0" lang="es-ES" sz="5400" spc="-1" strike="noStrike">
                <a:solidFill>
                  <a:srgbClr val="ffffff"/>
                </a:solidFill>
                <a:latin typeface="Berlin Sans FB Demi"/>
              </a:rPr>
              <a:t>la bandera de Puerto Rico?</a:t>
            </a:r>
            <a:endParaRPr b="0" lang="en-US" sz="5400" spc="-1" strike="noStrike">
              <a:solidFill>
                <a:srgbClr val="ffffff"/>
              </a:solidFill>
              <a:latin typeface="Berlin Sans FB Demi"/>
            </a:endParaRPr>
          </a:p>
        </p:txBody>
      </p:sp>
      <p:pic>
        <p:nvPicPr>
          <p:cNvPr id="55" name="Content Placeholder 2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6181560" cy="41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ffffff"/>
                </a:solidFill>
                <a:latin typeface="Berlin Sans FB Demi"/>
              </a:rPr>
              <a:t>¿De qué colores son…</a:t>
            </a:r>
            <a:br>
              <a:rPr sz="6000"/>
            </a:br>
            <a:r>
              <a:rPr b="0" lang="es-ES" sz="6000" spc="-1" strike="noStrike">
                <a:solidFill>
                  <a:srgbClr val="ffffff"/>
                </a:solidFill>
                <a:latin typeface="Berlin Sans FB Demi"/>
              </a:rPr>
              <a:t>la bandera de México?</a:t>
            </a:r>
            <a:endParaRPr b="0" lang="en-US" sz="6000" spc="-1" strike="noStrike">
              <a:solidFill>
                <a:srgbClr val="ffffff"/>
              </a:solidFill>
              <a:latin typeface="Berlin Sans FB Dem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6718320" cy="45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ffffff"/>
                </a:solidFill>
                <a:latin typeface="Berlin Sans FB Demi"/>
              </a:rPr>
              <a:t>¿De qué colores son…</a:t>
            </a:r>
            <a:br>
              <a:rPr sz="6000"/>
            </a:br>
            <a:r>
              <a:rPr b="0" lang="es-ES" sz="6000" spc="-1" strike="noStrike">
                <a:solidFill>
                  <a:srgbClr val="ffffff"/>
                </a:solidFill>
                <a:latin typeface="Berlin Sans FB Demi"/>
              </a:rPr>
              <a:t>la bandera de España?</a:t>
            </a:r>
            <a:endParaRPr b="0" lang="en-US" sz="6000" spc="-1" strike="noStrike">
              <a:solidFill>
                <a:srgbClr val="ffffff"/>
              </a:solidFill>
              <a:latin typeface="Berlin Sans FB Dem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1017720" y="2057400"/>
            <a:ext cx="6508440" cy="44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es-ES" sz="6000" spc="-1" strike="noStrike">
                <a:solidFill>
                  <a:srgbClr val="ffffff"/>
                </a:solidFill>
                <a:latin typeface="Berlin Sans FB Demi"/>
              </a:rPr>
              <a:t>¿De qué colores son…</a:t>
            </a:r>
            <a:br>
              <a:rPr sz="6000"/>
            </a:br>
            <a:r>
              <a:rPr b="0" lang="es-ES" sz="6000" spc="-1" strike="noStrike">
                <a:solidFill>
                  <a:srgbClr val="ffffff"/>
                </a:solidFill>
                <a:latin typeface="Berlin Sans FB Demi"/>
              </a:rPr>
              <a:t>la bandera de Argentina?</a:t>
            </a:r>
            <a:endParaRPr b="0" lang="en-US" sz="6000" spc="-1" strike="noStrike">
              <a:solidFill>
                <a:srgbClr val="ffffff"/>
              </a:solidFill>
              <a:latin typeface="Berlin Sans FB Dem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447920" y="2819520"/>
            <a:ext cx="556236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ff"/>
                </a:solidFill>
                <a:latin typeface="Berlin Sans FB Demi"/>
              </a:rPr>
              <a:t>¿De qué colores son…</a:t>
            </a:r>
            <a:br>
              <a:rPr sz="5400"/>
            </a:br>
            <a:r>
              <a:rPr b="0" lang="es-ES" sz="5400" spc="-1" strike="noStrike">
                <a:solidFill>
                  <a:srgbClr val="ffffff"/>
                </a:solidFill>
                <a:latin typeface="Berlin Sans FB Demi"/>
              </a:rPr>
              <a:t>la bandera de Cuba?</a:t>
            </a:r>
            <a:endParaRPr b="0" lang="en-US" sz="5400" spc="-1" strike="noStrike">
              <a:solidFill>
                <a:srgbClr val="ffffff"/>
              </a:solidFill>
              <a:latin typeface="Berlin Sans FB Demi"/>
            </a:endParaRPr>
          </a:p>
        </p:txBody>
      </p:sp>
      <p:pic>
        <p:nvPicPr>
          <p:cNvPr id="63" name="Content Placeholder 1" descr=""/>
          <p:cNvPicPr/>
          <p:nvPr/>
        </p:nvPicPr>
        <p:blipFill>
          <a:blip r:embed="rId1"/>
          <a:stretch/>
        </p:blipFill>
        <p:spPr>
          <a:xfrm>
            <a:off x="952560" y="1981080"/>
            <a:ext cx="7238880" cy="36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Berlin Sans FB Demi"/>
              </a:rPr>
              <a:t>¿De qué colores son…</a:t>
            </a:r>
            <a:br>
              <a:rPr sz="4800"/>
            </a:br>
            <a:r>
              <a:rPr b="0" lang="es-ES" sz="4800" spc="-1" strike="noStrike">
                <a:solidFill>
                  <a:srgbClr val="ffffff"/>
                </a:solidFill>
                <a:latin typeface="Berlin Sans FB Demi"/>
              </a:rPr>
              <a:t>la bandera de Bolivia?</a:t>
            </a:r>
            <a:endParaRPr b="0" lang="en-US" sz="4800" spc="-1" strike="noStrike">
              <a:solidFill>
                <a:srgbClr val="ffffff"/>
              </a:solidFill>
              <a:latin typeface="Berlin Sans FB Demi"/>
            </a:endParaRPr>
          </a:p>
        </p:txBody>
      </p:sp>
      <p:pic>
        <p:nvPicPr>
          <p:cNvPr id="65" name="Content Placeholder 2" descr=""/>
          <p:cNvPicPr/>
          <p:nvPr/>
        </p:nvPicPr>
        <p:blipFill>
          <a:blip r:embed="rId1"/>
          <a:stretch/>
        </p:blipFill>
        <p:spPr>
          <a:xfrm>
            <a:off x="1866960" y="2057400"/>
            <a:ext cx="5410080" cy="36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6T03:40:26Z</dcterms:created>
  <dc:creator>Lisa</dc:creator>
  <dc:description/>
  <dc:language>en-US</dc:language>
  <cp:lastModifiedBy>Amy Zeeff</cp:lastModifiedBy>
  <dcterms:modified xsi:type="dcterms:W3CDTF">2014-09-17T12:31:29Z</dcterms:modified>
  <cp:revision>5</cp:revision>
  <dc:subject/>
  <dc:title>Las banderas del mundo</dc:title>
</cp:coreProperties>
</file>